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05174b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99080"/>
            <a:ext cx="4986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cecece"/>
                </a:solidFill>
                <a:latin typeface="Arial"/>
                <a:ea typeface="Arial"/>
              </a:rPr>
              <a:t>Winsock 2 - Generic API Extensions and Operating Framework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709776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36434168-A013-4BCE-8577-4789E50DCCAD}" type="datetime"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9274F8AF-32AD-4788-AFE1-7453E702CCEF}" type="slidenum"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380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23880" y="2133720"/>
            <a:ext cx="6400800" cy="32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joint meeting of the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rating Framework </a:t>
            </a:r>
            <a:br>
              <a:rPr sz="18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d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eneric API Extension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unctionalit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cember 12,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Symbol"/>
              <a:buChar char=""/>
            </a:pPr>
            <a:r>
              <a:rPr b="0" i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taneous access to multiple transport prov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 discovery and usag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ndardized Winsock2 D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rvice Provider Interfaces (16 and 32 b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Simultaneous Protocols: A Paradigm Sh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ld: well-known socket types and protocol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hard coded to certain protos because of their well-known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: don’t care about socket type and protoco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select protos on the basis of their attributes - need not be hard cod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rotocols from an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’s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ent / Server ap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ers listen on all suitable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ients connect using any suitabl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ress discovery via WS2 name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eer to peer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ress book contains typ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ample: phone #, TCP/IP addr, ATM 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suitable protocols that match address type (i.e. address fami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ing One or More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EnumProtocols(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put: filter (optional), buffer, buffer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tput: filled in buffer, revised buffer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TOCOL_INFO str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 per protocol (us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cribes protocol attributes and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lies all params needed fo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cket()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SASocke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3880" y="2470320"/>
            <a:ext cx="7075440" cy="2952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1660680" y="1766880"/>
            <a:ext cx="2476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27160" y="5576760"/>
            <a:ext cx="7594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ts of space reserved for future 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 Attribut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2165400"/>
            <a:ext cx="7126200" cy="198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660680" y="1690560"/>
            <a:ext cx="3030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ameter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43000" y="4038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lti-behaviored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e PROTOCOL_INFO entry p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 entries have same Protocol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cket type used to distingu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ock 2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1676520"/>
            <a:ext cx="1295280" cy="7621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90920" y="1774800"/>
            <a:ext cx="99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2743200"/>
            <a:ext cx="6096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47920" y="2484360"/>
            <a:ext cx="838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4419720"/>
            <a:ext cx="6096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920" y="4160880"/>
            <a:ext cx="838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2971800"/>
            <a:ext cx="6019920" cy="11430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2d28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90920" y="3094200"/>
            <a:ext cx="57150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ock 2 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46200" y="4648320"/>
            <a:ext cx="1897200" cy="11430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000000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90920" y="4770360"/>
            <a:ext cx="1676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03600" y="4648320"/>
            <a:ext cx="1897200" cy="11430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000000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4770360"/>
            <a:ext cx="1676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61000" y="4648320"/>
            <a:ext cx="1897200" cy="11430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000000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705720" y="4770360"/>
            <a:ext cx="1676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1676520"/>
            <a:ext cx="1295280" cy="7621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191120" y="1774800"/>
            <a:ext cx="99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1676520"/>
            <a:ext cx="1295280" cy="7621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715000" y="1774800"/>
            <a:ext cx="99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1676520"/>
            <a:ext cx="1295280" cy="7621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315200" y="1774800"/>
            <a:ext cx="99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I Concepts 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S2SPI.DOC, section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e winsock2 DLL per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 winsock2 DLL routes to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chitectural freedom for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vider 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vider handles any necessary bu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vs. 16-Bit SPI (WS2SPI.DOC, section 2.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ces minimized; portability maxim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locking models di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andle management di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9:00 - 9:3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rivals and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9:30 - 9:45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et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9:45 - 10:0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rief Historical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0:00 - 12:0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chnic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2:00 - 1:0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unch B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:00 - 2:3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chnical Pre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:30 - 3:0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3:00 - ???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eneral Q&amp;A /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 APIs 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S2SPI.DOC, section 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PUInstallProvider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PUDeinstallProvider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 not install files; only inform winsock2 D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bstract storage of config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er Upcalls 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S2SPI.DOC, section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read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ead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ue APC/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andl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eation of unique socket h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Symbol"/>
              <a:buChar char=""/>
            </a:pPr>
            <a:r>
              <a:rPr b="0" i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ncy and throughput 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lapped socke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nd and recv from within preemptive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efficient notification: events, APCs, call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lapped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wer data buffer co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ultiple simultaneous pending I/O requests per so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read-safe callback mechanism in preemptive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exible notification options (APCs or event obje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lec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AsyncSelec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EventSelec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Cs and event objects (overlapped i/o comple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Symbol"/>
              <a:buChar char=""/>
            </a:pPr>
            <a:r>
              <a:rPr b="0" i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of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ow sp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 priori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w Sp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ag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racteristics of a uni-directional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request and networks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p QOS Name to Flow S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incident on connection set-up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ry established Flow S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notified for any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w Spec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tegories of Flow Spec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ndwidth (peak, average, burst leng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tency (end-to-end delay, delay var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evel of service guaran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r-specific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124080" y="2514600"/>
            <a:ext cx="4038480" cy="533520"/>
            <a:chOff x="3124080" y="2514600"/>
            <a:chExt cx="4038480" cy="533520"/>
          </a:xfrm>
        </p:grpSpPr>
        <p:sp>
          <p:nvSpPr>
            <p:cNvPr id="169" name=""/>
            <p:cNvSpPr/>
            <p:nvPr/>
          </p:nvSpPr>
          <p:spPr>
            <a:xfrm>
              <a:off x="3124080" y="2514600"/>
              <a:ext cx="4038480" cy="533520"/>
            </a:xfrm>
            <a:prstGeom prst="rect">
              <a:avLst/>
            </a:prstGeom>
            <a:solidFill>
              <a:srgbClr val="e5405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4098960" y="2575080"/>
              <a:ext cx="2149560" cy="457200"/>
            </a:xfrm>
            <a:prstGeom prst="rect">
              <a:avLst/>
            </a:prstGeom>
            <a:solidFill>
              <a:srgbClr val="e5405d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i="1" lang="en-US" sz="2400" spc="-1" strike="noStrike">
                  <a:solidFill>
                    <a:srgbClr val="8cf4ea"/>
                  </a:solidFill>
                  <a:latin typeface="Arial"/>
                  <a:ea typeface="Arial"/>
                </a:rPr>
                <a:t>Winsock2.D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Winsock 2.0 over A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3276720"/>
            <a:ext cx="2057400" cy="99072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4343400"/>
            <a:ext cx="1905120" cy="60948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3276720"/>
            <a:ext cx="1143000" cy="167652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038480" y="1676520"/>
            <a:ext cx="1981080" cy="533520"/>
            <a:chOff x="4038480" y="1676520"/>
            <a:chExt cx="1981080" cy="533520"/>
          </a:xfrm>
        </p:grpSpPr>
        <p:sp>
          <p:nvSpPr>
            <p:cNvPr id="176" name=""/>
            <p:cNvSpPr/>
            <p:nvPr/>
          </p:nvSpPr>
          <p:spPr>
            <a:xfrm>
              <a:off x="4038480" y="1676520"/>
              <a:ext cx="1981080" cy="533520"/>
            </a:xfrm>
            <a:prstGeom prst="rect">
              <a:avLst/>
            </a:prstGeom>
            <a:solidFill>
              <a:srgbClr val="e5405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4556160" y="1736640"/>
              <a:ext cx="879480" cy="457200"/>
            </a:xfrm>
            <a:prstGeom prst="rect">
              <a:avLst/>
            </a:prstGeom>
            <a:solidFill>
              <a:srgbClr val="e5405d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2400" spc="-1" strike="noStrike">
                  <a:solidFill>
                    <a:srgbClr val="8cf4ea"/>
                  </a:solidFill>
                  <a:latin typeface="Arial"/>
                  <a:ea typeface="Arial"/>
                </a:rPr>
                <a:t>Ap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19520" y="243828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12408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17880" y="2193840"/>
            <a:ext cx="67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8cf4ea"/>
                </a:solidFill>
                <a:latin typeface="Arial"/>
                <a:ea typeface="Arial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117880" y="2879640"/>
            <a:ext cx="67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8cf4ea"/>
                </a:solidFill>
                <a:latin typeface="Arial"/>
                <a:ea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114800" y="5638680"/>
            <a:ext cx="2438280" cy="762120"/>
            <a:chOff x="4114800" y="5638680"/>
            <a:chExt cx="2438280" cy="762120"/>
          </a:xfrm>
        </p:grpSpPr>
        <p:sp>
          <p:nvSpPr>
            <p:cNvPr id="183" name=""/>
            <p:cNvSpPr/>
            <p:nvPr/>
          </p:nvSpPr>
          <p:spPr>
            <a:xfrm>
              <a:off x="4114800" y="5638680"/>
              <a:ext cx="2438280" cy="5335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10080" y="6172200"/>
              <a:ext cx="1143000" cy="228600"/>
            </a:xfrm>
            <a:prstGeom prst="rect">
              <a:avLst/>
            </a:pr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4556160" y="5745240"/>
              <a:ext cx="1722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2000" spc="-1" strike="noStrike">
                  <a:solidFill>
                    <a:srgbClr val="8cf4ea"/>
                  </a:solidFill>
                  <a:latin typeface="Arial"/>
                  <a:ea typeface="Arial"/>
                </a:rPr>
                <a:t>ATM 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 txBox="1"/>
          <p:nvPr/>
        </p:nvSpPr>
        <p:spPr>
          <a:xfrm>
            <a:off x="3489480" y="3611520"/>
            <a:ext cx="1082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784760" y="4319640"/>
            <a:ext cx="1311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E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5105520"/>
            <a:ext cx="2438280" cy="4572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861080" y="5135400"/>
            <a:ext cx="663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461280" y="3763800"/>
            <a:ext cx="1116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4343400"/>
            <a:ext cx="1447920" cy="60948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879640" y="4319640"/>
            <a:ext cx="1454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IP over 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(RFC 15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3276720"/>
            <a:ext cx="1295280" cy="990720"/>
          </a:xfrm>
          <a:prstGeom prst="rect">
            <a:avLst/>
          </a:prstGeom>
          <a:solidFill>
            <a:srgbClr val="8901f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165640" y="3633840"/>
            <a:ext cx="1073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IPX/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stablish relationship for a particular set of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 group created/joined at  connection set-up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roup QOS maps to the underlying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lative priorities among sockets within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Symbol"/>
              <a:buChar char=""/>
            </a:pPr>
            <a:r>
              <a:rPr b="0" i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functionality 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hared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nection establ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dition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hange of user to us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i-directional flags  parameter in receiv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So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ngle socket with multiple han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SADuplicateSocket()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amet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socket 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tination task 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urns: socket handle valid only in context of destination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PC needed to get destination task handle and to supply new socket ha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Socket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/O must be coordinated by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tification i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depende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each 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 options and ioctl’s are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itional Accep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Accept(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ondition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895480"/>
            <a:ext cx="0" cy="3353040"/>
          </a:xfrm>
          <a:prstGeom prst="line">
            <a:avLst/>
          </a:prstGeom>
          <a:ln w="3816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2895480"/>
            <a:ext cx="0" cy="3429000"/>
          </a:xfrm>
          <a:prstGeom prst="line">
            <a:avLst/>
          </a:prstGeom>
          <a:ln w="3816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84360" y="3063960"/>
            <a:ext cx="12412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) Incoming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connection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660680" y="2490840"/>
            <a:ext cx="1022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 u="sng">
                <a:solidFill>
                  <a:srgbClr val="114ffb"/>
                </a:solidFill>
                <a:uFillTx/>
                <a:latin typeface="Arial"/>
                <a:ea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489480" y="2490840"/>
            <a:ext cx="1866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 u="sng">
                <a:solidFill>
                  <a:srgbClr val="114ffb"/>
                </a:solidFill>
                <a:uFillTx/>
                <a:latin typeface="Arial"/>
                <a:ea typeface="Arial"/>
              </a:rPr>
              <a:t>Winsock 2 + 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84960" y="2490840"/>
            <a:ext cx="130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 u="sng">
                <a:solidFill>
                  <a:srgbClr val="114ffb"/>
                </a:solidFill>
                <a:uFillTx/>
                <a:latin typeface="Arial"/>
                <a:ea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630600" y="3170160"/>
            <a:ext cx="1884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) send FD_ACCEPT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message to 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156360" y="3679920"/>
            <a:ext cx="2287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) App calls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SAAccep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641760" y="4289400"/>
            <a:ext cx="17654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) invoke app’s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condition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156360" y="4365720"/>
            <a:ext cx="258588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) Condition function hand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- whether to ac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- socket grouping and Q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- user-to-us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718080" y="5127480"/>
            <a:ext cx="17748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6) condition function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) accept, reject or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de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08040" y="5965920"/>
            <a:ext cx="1211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8) ack or n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232680" y="5965920"/>
            <a:ext cx="2120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9)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SAAccept()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3276720"/>
            <a:ext cx="838080" cy="15228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3733920"/>
            <a:ext cx="838440" cy="15228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0" y="4038480"/>
            <a:ext cx="1752480" cy="22860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495680"/>
            <a:ext cx="1143000" cy="30492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952880" y="4952880"/>
            <a:ext cx="1447920" cy="15264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600" y="5715000"/>
            <a:ext cx="1143000" cy="30492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5867280"/>
            <a:ext cx="1371600" cy="22860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hanging Connec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ort for user data exchange during connect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itiator use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SAConnec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plies buffers for inbound and outbou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bound buffer only valid after FD_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stener use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SAAccep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dition function used to get/supply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ly works if supported by protoc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ing recv flags IN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‘MORE’ flag by some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ock 1.1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cv()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d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cvfrom(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have flags parameter as INPUT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Recv(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RecvFrom(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lags parameter is IN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able by both overlapped and regular s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port on a joint effort to produce core elements of a strawman sp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swer questions and solici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oal: API and SPI specs published by Christ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fine the process for moving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ock 2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 we need scatter/ga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hould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Socket()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ke a PROTOCOL_INFO struct as inp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 we need independent notification on shared so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Issue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hould our two groups be merg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llect your comments and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pdate the API and SPI do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ose as many “opens”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ublish docs, slides, meeting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ia anonymous ftp and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ne by Christ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epare for presentation to WS2 Review Boards in Jan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876920" y="1752480"/>
            <a:ext cx="3581280" cy="1066680"/>
          </a:xfrm>
          <a:prstGeom prst="rect">
            <a:avLst/>
          </a:prstGeom>
          <a:solidFill>
            <a:srgbClr val="8cf4e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o, what do you thin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&amp;A /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22640" y="2062080"/>
            <a:ext cx="28684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1647720" y="255600"/>
            <a:ext cx="6529320" cy="6264360"/>
            <a:chOff x="1647720" y="255600"/>
            <a:chExt cx="6529320" cy="626436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1655640" y="255600"/>
              <a:ext cx="6521400" cy="43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1647720" y="4610160"/>
              <a:ext cx="2465280" cy="1909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5" name=""/>
            <p:cNvGrpSpPr/>
            <p:nvPr/>
          </p:nvGrpSpPr>
          <p:grpSpPr>
            <a:xfrm>
              <a:off x="2763720" y="2320920"/>
              <a:ext cx="1301400" cy="781560"/>
              <a:chOff x="2763720" y="2320920"/>
              <a:chExt cx="1301400" cy="781560"/>
            </a:xfrm>
          </p:grpSpPr>
          <p:sp>
            <p:nvSpPr>
              <p:cNvPr id="246" name=""/>
              <p:cNvSpPr/>
              <p:nvPr/>
            </p:nvSpPr>
            <p:spPr>
              <a:xfrm>
                <a:off x="3332160" y="2733840"/>
                <a:ext cx="732960" cy="368640"/>
              </a:xfrm>
              <a:custGeom>
                <a:avLst/>
                <a:gdLst/>
                <a:ahLst/>
                <a:rect l="0" t="0" r="r" b="b"/>
                <a:pathLst>
                  <a:path fill="none" w="2036" h="1024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180"/>
                      <a:pt x="94" y="356"/>
                      <a:pt x="273" y="512"/>
                    </a:cubicBezTo>
                    <a:cubicBezTo>
                      <a:pt x="451" y="668"/>
                      <a:pt x="708" y="797"/>
                      <a:pt x="1018" y="887"/>
                    </a:cubicBezTo>
                    <a:cubicBezTo>
                      <a:pt x="1328" y="977"/>
                      <a:pt x="1679" y="1024"/>
                      <a:pt x="2036" y="1024"/>
                    </a:cubicBezTo>
                  </a:path>
                </a:pathLst>
              </a:custGeom>
              <a:ln w="152280">
                <a:solidFill>
                  <a:srgbClr val="ffffff"/>
                </a:solidFill>
                <a:round/>
              </a:ln>
            </p:spPr>
            <p:txBody>
              <a:bodyPr lIns="165960" rIns="165960" tIns="120960" bIns="12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763720" y="2320920"/>
                <a:ext cx="673560" cy="377280"/>
              </a:xfrm>
              <a:custGeom>
                <a:avLst/>
                <a:gdLst/>
                <a:ahLst/>
                <a:rect l="0" t="0" r="r" b="b"/>
                <a:pathLst>
                  <a:path fill="none" w="1871" h="1048">
                    <a:moveTo>
                      <a:pt x="1871" y="1048"/>
                    </a:moveTo>
                    <a:lnTo>
                      <a:pt x="1871" y="1048"/>
                    </a:lnTo>
                    <a:lnTo>
                      <a:pt x="1871" y="1048"/>
                    </a:lnTo>
                    <a:cubicBezTo>
                      <a:pt x="1871" y="864"/>
                      <a:pt x="1785" y="683"/>
                      <a:pt x="1620" y="524"/>
                    </a:cubicBezTo>
                    <a:cubicBezTo>
                      <a:pt x="1456" y="365"/>
                      <a:pt x="1220" y="232"/>
                      <a:pt x="935" y="140"/>
                    </a:cubicBezTo>
                    <a:cubicBezTo>
                      <a:pt x="651" y="48"/>
                      <a:pt x="328" y="0"/>
                      <a:pt x="0" y="0"/>
                    </a:cubicBezTo>
                  </a:path>
                </a:pathLst>
              </a:custGeom>
              <a:ln w="152280">
                <a:solidFill>
                  <a:srgbClr val="ffffff"/>
                </a:solidFill>
                <a:round/>
              </a:ln>
            </p:spPr>
            <p:txBody>
              <a:bodyPr lIns="165960" rIns="165960" tIns="120960" bIns="12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936880" y="4167360"/>
              <a:ext cx="3666960" cy="0"/>
            </a:xfrm>
            <a:prstGeom prst="line">
              <a:avLst/>
            </a:prstGeom>
            <a:ln w="2030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91520" rIns="191520" tIns="-146520" bIns="-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94400" y="3478320"/>
              <a:ext cx="0" cy="703080"/>
            </a:xfrm>
            <a:prstGeom prst="line">
              <a:avLst/>
            </a:prstGeom>
            <a:ln w="152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4408560" y="4195800"/>
              <a:ext cx="59040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16680" y="2952720"/>
              <a:ext cx="1641960" cy="914760"/>
            </a:xfrm>
            <a:custGeom>
              <a:avLst/>
              <a:gdLst/>
              <a:ahLst/>
              <a:rect l="0" t="0" r="r" b="b"/>
              <a:pathLst>
                <a:path w="4561" h="2541">
                  <a:moveTo>
                    <a:pt x="0" y="0"/>
                  </a:moveTo>
                  <a:lnTo>
                    <a:pt x="1895" y="775"/>
                  </a:lnTo>
                  <a:lnTo>
                    <a:pt x="1323" y="853"/>
                  </a:lnTo>
                  <a:lnTo>
                    <a:pt x="2981" y="1532"/>
                  </a:lnTo>
                  <a:lnTo>
                    <a:pt x="2251" y="1552"/>
                  </a:lnTo>
                  <a:lnTo>
                    <a:pt x="4561" y="2541"/>
                  </a:lnTo>
                  <a:lnTo>
                    <a:pt x="1619" y="1493"/>
                  </a:lnTo>
                  <a:lnTo>
                    <a:pt x="2389" y="1416"/>
                  </a:lnTo>
                  <a:lnTo>
                    <a:pt x="671" y="736"/>
                  </a:lnTo>
                  <a:lnTo>
                    <a:pt x="1461" y="6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2789280" y="3027240"/>
              <a:ext cx="90792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5548320" y="2541600"/>
              <a:ext cx="151776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LEPH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78520" y="1983600"/>
              <a:ext cx="841680" cy="570960"/>
            </a:xfrm>
            <a:custGeom>
              <a:avLst/>
              <a:gdLst/>
              <a:ahLst/>
              <a:rect l="0" t="0" r="r" b="b"/>
              <a:pathLst>
                <a:path fill="none" w="2338" h="1586">
                  <a:moveTo>
                    <a:pt x="0" y="1586"/>
                  </a:moveTo>
                  <a:lnTo>
                    <a:pt x="0" y="1586"/>
                  </a:lnTo>
                  <a:cubicBezTo>
                    <a:pt x="410" y="1586"/>
                    <a:pt x="814" y="1513"/>
                    <a:pt x="1169" y="1374"/>
                  </a:cubicBezTo>
                  <a:cubicBezTo>
                    <a:pt x="1524" y="1234"/>
                    <a:pt x="1820" y="1034"/>
                    <a:pt x="2025" y="793"/>
                  </a:cubicBezTo>
                  <a:cubicBezTo>
                    <a:pt x="2230" y="552"/>
                    <a:pt x="2338" y="278"/>
                    <a:pt x="2338" y="0"/>
                  </a:cubicBez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11840" y="2001960"/>
              <a:ext cx="225360" cy="2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68960" y="1963800"/>
              <a:ext cx="241560" cy="168480"/>
            </a:xfrm>
            <a:custGeom>
              <a:avLst/>
              <a:gdLst/>
              <a:ahLst/>
              <a:rect l="0" t="0" r="r" b="b"/>
              <a:pathLst>
                <a:path fill="none" w="671" h="468">
                  <a:moveTo>
                    <a:pt x="0" y="468"/>
                  </a:moveTo>
                  <a:lnTo>
                    <a:pt x="0" y="468"/>
                  </a:lnTo>
                  <a:cubicBezTo>
                    <a:pt x="118" y="468"/>
                    <a:pt x="233" y="446"/>
                    <a:pt x="336" y="405"/>
                  </a:cubicBezTo>
                  <a:cubicBezTo>
                    <a:pt x="438" y="364"/>
                    <a:pt x="522" y="305"/>
                    <a:pt x="581" y="234"/>
                  </a:cubicBezTo>
                  <a:cubicBezTo>
                    <a:pt x="640" y="163"/>
                    <a:pt x="671" y="82"/>
                    <a:pt x="671" y="0"/>
                  </a:cubicBez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6321600" y="1925640"/>
              <a:ext cx="179280" cy="495360"/>
              <a:chOff x="6321600" y="1925640"/>
              <a:chExt cx="179280" cy="495360"/>
            </a:xfrm>
          </p:grpSpPr>
          <p:sp>
            <p:nvSpPr>
              <p:cNvPr id="258" name=""/>
              <p:cNvSpPr/>
              <p:nvPr/>
            </p:nvSpPr>
            <p:spPr>
              <a:xfrm>
                <a:off x="6400800" y="1925640"/>
                <a:ext cx="27000" cy="495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321600" y="1955880"/>
                <a:ext cx="179280" cy="19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321600" y="1994040"/>
                <a:ext cx="177840" cy="15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938920" y="1967760"/>
              <a:ext cx="242640" cy="167760"/>
            </a:xfrm>
            <a:custGeom>
              <a:avLst/>
              <a:gdLst/>
              <a:ahLst/>
              <a:rect l="0" t="0" r="r" b="b"/>
              <a:pathLst>
                <a:path fill="none" w="674" h="466">
                  <a:moveTo>
                    <a:pt x="0" y="0"/>
                  </a:moveTo>
                  <a:lnTo>
                    <a:pt x="0" y="0"/>
                  </a:lnTo>
                  <a:cubicBezTo>
                    <a:pt x="0" y="82"/>
                    <a:pt x="31" y="162"/>
                    <a:pt x="90" y="233"/>
                  </a:cubicBezTo>
                  <a:cubicBezTo>
                    <a:pt x="149" y="304"/>
                    <a:pt x="235" y="363"/>
                    <a:pt x="337" y="404"/>
                  </a:cubicBezTo>
                  <a:cubicBezTo>
                    <a:pt x="439" y="444"/>
                    <a:pt x="556" y="466"/>
                    <a:pt x="674" y="466"/>
                  </a:cubicBez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13360" y="1913040"/>
              <a:ext cx="34920" cy="63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11840" y="1955880"/>
              <a:ext cx="227160" cy="2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6446880" y="3451320"/>
              <a:ext cx="131436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IREL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3757680" y="4486320"/>
              <a:ext cx="3763800" cy="17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4"/>
            <a:stretch/>
          </p:blipFill>
          <p:spPr>
            <a:xfrm>
              <a:off x="3692520" y="1981080"/>
              <a:ext cx="1712880" cy="14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154400" y="2109960"/>
              <a:ext cx="804960" cy="55872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5"/>
            <a:stretch/>
          </p:blipFill>
          <p:spPr>
            <a:xfrm>
              <a:off x="4216320" y="2131920"/>
              <a:ext cx="731880" cy="46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rief Historical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ow the strawman team came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ti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ork methods and time s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Requirements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New Features by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ng Framework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1320" y="1646280"/>
            <a:ext cx="57913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API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78080" y="1596960"/>
            <a:ext cx="57625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API Requirement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97240" y="1569960"/>
            <a:ext cx="575460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. Andersen</dc:creator>
  <dc:description/>
  <dc:language>en-US</dc:language>
  <cp:lastModifiedBy>David B. Andersen</cp:lastModifiedBy>
  <cp:revision>0</cp:revision>
  <dc:subject>Slides for December 12 mtg</dc:subject>
  <dc:title>Windows Sockets 2</dc:title>
</cp:coreProperties>
</file>